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B91D-536B-4DF6-93FC-A0AF3C46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C56-D6FC-4749-9A42-CC81A524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10B-534B-46AA-9FC3-859AECA9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F0D-570F-46B1-A4E0-D683888C3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175-4897-4E0E-BA62-94D2F953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112-A30F-4B2E-8C39-DFFCF760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CB2-BB80-462C-B695-CDC26C9A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5C8-D7AB-47AA-980F-1B593FA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3AF-2470-466D-B723-77606334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D00-2744-413B-9285-9C9C6A9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A82-AEF9-4601-BD3D-8CE3CF25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059-E76D-4319-B1F1-01570D68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AB37-52BC-48C5-92E5-FF43A85BBC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595080" y="1052640"/>
            <a:ext cx="8280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900" spc="-1" strike="noStrike">
                <a:solidFill>
                  <a:srgbClr val="ffffff"/>
                </a:solidFill>
                <a:latin typeface="Calibri"/>
                <a:ea typeface="Arial"/>
              </a:rPr>
              <a:t>Missoula County Public School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539080" y="234936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Add your message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3478320" y="3465360"/>
            <a:ext cx="2187360" cy="2619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ounded Rectangle 5" descr=""/>
          <p:cNvPicPr/>
          <p:nvPr/>
        </p:nvPicPr>
        <p:blipFill>
          <a:blip r:embed="rId3"/>
          <a:stretch/>
        </p:blipFill>
        <p:spPr>
          <a:xfrm>
            <a:off x="4359240" y="725400"/>
            <a:ext cx="4046400" cy="565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4"/>
          <a:stretch/>
        </p:blipFill>
        <p:spPr>
          <a:xfrm>
            <a:off x="871560" y="536400"/>
            <a:ext cx="2835360" cy="786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Rounded Rectangle 4" descr=""/>
          <p:cNvPicPr/>
          <p:nvPr/>
        </p:nvPicPr>
        <p:blipFill>
          <a:blip r:embed="rId3"/>
          <a:stretch/>
        </p:blipFill>
        <p:spPr>
          <a:xfrm>
            <a:off x="1158840" y="517680"/>
            <a:ext cx="6826320" cy="1933560"/>
          </a:xfrm>
          <a:prstGeom prst="rect">
            <a:avLst/>
          </a:prstGeom>
          <a:ln w="0">
            <a:noFill/>
          </a:ln>
        </p:spPr>
      </p:pic>
      <p:pic>
        <p:nvPicPr>
          <p:cNvPr id="54" name="Diagram 2" descr=""/>
          <p:cNvPicPr/>
          <p:nvPr/>
        </p:nvPicPr>
        <p:blipFill>
          <a:blip r:embed="rId4"/>
          <a:stretch/>
        </p:blipFill>
        <p:spPr>
          <a:xfrm>
            <a:off x="1444680" y="2614680"/>
            <a:ext cx="6254640" cy="377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Diagram 3" descr=""/>
          <p:cNvPicPr/>
          <p:nvPr/>
        </p:nvPicPr>
        <p:blipFill>
          <a:blip r:embed="rId3"/>
          <a:stretch/>
        </p:blipFill>
        <p:spPr>
          <a:xfrm>
            <a:off x="414360" y="1163520"/>
            <a:ext cx="3919680" cy="428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4322880" y="1779480"/>
            <a:ext cx="4486320" cy="3243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324000" y="333360"/>
            <a:ext cx="8547120" cy="6262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Rounded Rectangle 5"/>
          <p:cNvGrpSpPr/>
          <p:nvPr/>
        </p:nvGrpSpPr>
        <p:grpSpPr>
          <a:xfrm>
            <a:off x="822240" y="3962520"/>
            <a:ext cx="7547040" cy="2388960"/>
            <a:chOff x="822240" y="3962520"/>
            <a:chExt cx="7547040" cy="2388960"/>
          </a:xfrm>
        </p:grpSpPr>
        <p:pic>
          <p:nvPicPr>
            <p:cNvPr id="64" name="Rounded Rectangle 5" descr=""/>
            <p:cNvPicPr/>
            <p:nvPr/>
          </p:nvPicPr>
          <p:blipFill>
            <a:blip r:embed="rId3"/>
            <a:stretch/>
          </p:blipFill>
          <p:spPr>
            <a:xfrm>
              <a:off x="822240" y="3962520"/>
              <a:ext cx="754704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966960" y="4106880"/>
              <a:ext cx="72612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alibri"/>
                </a:rPr>
                <a:t>Feel free to adjust the color as you wish.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Chart 4" descr=""/>
          <p:cNvPicPr/>
          <p:nvPr/>
        </p:nvPicPr>
        <p:blipFill>
          <a:blip r:embed="rId4"/>
          <a:stretch/>
        </p:blipFill>
        <p:spPr>
          <a:xfrm>
            <a:off x="1065240" y="425520"/>
            <a:ext cx="7013520" cy="334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5"/>
          <a:stretch/>
        </p:blipFill>
        <p:spPr>
          <a:xfrm>
            <a:off x="423720" y="5445000"/>
            <a:ext cx="890640" cy="1065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5:33:03Z</dcterms:created>
  <dc:creator>Windows User</dc:creator>
  <dc:description/>
  <dc:language>en-US</dc:language>
  <cp:lastModifiedBy>Information Systems Center</cp:lastModifiedBy>
  <dcterms:modified xsi:type="dcterms:W3CDTF">2015-03-26T22:17:39Z</dcterms:modified>
  <cp:revision>23</cp:revision>
  <dc:subject/>
  <dc:title>Chalkboard PowerPoint Presentation</dc:title>
</cp:coreProperties>
</file>